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241-06BC-4F54-BC8B-62298F8B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D0A-86AE-4601-8A9C-A773939C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8DB-1244-488E-A6F2-42A4B2DE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BBF-4CFF-4211-8390-CF692BF5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C5A-6E58-4946-96A8-49E9F3D1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4A7-B72E-4416-8F81-52168C34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59C-DD5C-4424-AD5E-98CEA265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B39-CB38-4203-8944-8FF4AC45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E59-18A0-4A81-88E4-03611CFE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CE1-6B81-4451-B07A-ED7A35B9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C7F-E432-4F06-B688-F0342B49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A5E-1CB9-4482-82C0-69A7F385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4A55-EC9B-4DE4-818E-F64EA3478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72120" y="2951640"/>
            <a:ext cx="212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1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一次函数的图像与性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24320" y="3970440"/>
            <a:ext cx="37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一次函数的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31"/>
          <p:cNvSpPr/>
          <p:nvPr/>
        </p:nvSpPr>
        <p:spPr>
          <a:xfrm>
            <a:off x="285840" y="64296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80960" y="1268280"/>
            <a:ext cx="816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关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2k-1)x+(2k+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增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经过原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下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减小且函数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上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3"/>
          <p:cNvSpPr/>
          <p:nvPr/>
        </p:nvSpPr>
        <p:spPr>
          <a:xfrm>
            <a:off x="488880" y="404640"/>
            <a:ext cx="819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k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增大而增大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k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k+1=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k=-0.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时，函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图像经过原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k+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函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图像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轴的下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k+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得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0.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k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增大而减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k+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函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=(2k-1)x+(2k+1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图像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轴的上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得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0.5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此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498600" y="1197000"/>
            <a:ext cx="86104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一次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(1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满足下列条件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函数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增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函数图象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负半轴相交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31"/>
          <p:cNvSpPr/>
          <p:nvPr/>
        </p:nvSpPr>
        <p:spPr>
          <a:xfrm>
            <a:off x="573120" y="787320"/>
            <a:ext cx="10746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对象 1" descr=""/>
          <p:cNvPicPr/>
          <p:nvPr/>
        </p:nvPicPr>
        <p:blipFill>
          <a:blip r:embed="rId1"/>
          <a:stretch/>
        </p:blipFill>
        <p:spPr>
          <a:xfrm>
            <a:off x="5394240" y="1866960"/>
            <a:ext cx="787320" cy="763560"/>
          </a:xfrm>
          <a:prstGeom prst="rect">
            <a:avLst/>
          </a:prstGeom>
          <a:ln w="0">
            <a:noFill/>
          </a:ln>
        </p:spPr>
      </p:pic>
      <p:pic>
        <p:nvPicPr>
          <p:cNvPr id="192" name="对象 2" descr=""/>
          <p:cNvPicPr/>
          <p:nvPr/>
        </p:nvPicPr>
        <p:blipFill>
          <a:blip r:embed="rId2"/>
          <a:stretch/>
        </p:blipFill>
        <p:spPr>
          <a:xfrm>
            <a:off x="5519880" y="2840040"/>
            <a:ext cx="69048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625320" y="851040"/>
            <a:ext cx="9001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-0.5x+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下列判断中，正确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6"/>
          <p:cNvSpPr/>
          <p:nvPr/>
        </p:nvSpPr>
        <p:spPr>
          <a:xfrm>
            <a:off x="-1413000" y="2201760"/>
            <a:ext cx="903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-1413000" y="2709720"/>
            <a:ext cx="9031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5460840" y="1582560"/>
            <a:ext cx="4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5"/>
          <p:cNvSpPr/>
          <p:nvPr/>
        </p:nvSpPr>
        <p:spPr>
          <a:xfrm>
            <a:off x="266760" y="3708360"/>
            <a:ext cx="70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解析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根据一次函数图象的性质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随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增大而减小，所以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为正确答案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250920" y="4984920"/>
            <a:ext cx="70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提示：反过来也成立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越大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也越大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圆角矩形 31"/>
          <p:cNvSpPr/>
          <p:nvPr/>
        </p:nvSpPr>
        <p:spPr>
          <a:xfrm>
            <a:off x="573120" y="787320"/>
            <a:ext cx="10746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"/>
          <p:cNvSpPr/>
          <p:nvPr/>
        </p:nvSpPr>
        <p:spPr>
          <a:xfrm>
            <a:off x="755640" y="1496880"/>
            <a:ext cx="6994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)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填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"/>
          <p:cNvSpPr/>
          <p:nvPr/>
        </p:nvSpPr>
        <p:spPr>
          <a:xfrm>
            <a:off x="1231920" y="217008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6147"/>
          <p:cNvGrpSpPr/>
          <p:nvPr/>
        </p:nvGrpSpPr>
        <p:grpSpPr>
          <a:xfrm>
            <a:off x="325440" y="246240"/>
            <a:ext cx="2694240" cy="808200"/>
            <a:chOff x="325440" y="246240"/>
            <a:chExt cx="2694240" cy="808200"/>
          </a:xfrm>
        </p:grpSpPr>
        <p:sp>
          <p:nvSpPr>
            <p:cNvPr id="203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6151"/>
            <p:cNvSpPr/>
            <p:nvPr/>
          </p:nvSpPr>
          <p:spPr>
            <a:xfrm>
              <a:off x="248400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的性质的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矩形 3"/>
          <p:cNvSpPr/>
          <p:nvPr/>
        </p:nvSpPr>
        <p:spPr>
          <a:xfrm>
            <a:off x="344520" y="1195560"/>
            <a:ext cx="874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面食加工部每周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流动资金采购面粉及其他物品，其中购买面粉的质量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0kg-2000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，面粉的单价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，用剩余款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购买其他物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购买面粉的质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344520" y="299556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，并写出自变量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485640" y="3693960"/>
            <a:ext cx="865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题意，可知购买面粉的资金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.6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，总资金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元，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.6x+y=10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该函数关系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-3.6x+10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其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6"/>
          <p:cNvSpPr/>
          <p:nvPr/>
        </p:nvSpPr>
        <p:spPr>
          <a:xfrm>
            <a:off x="368280" y="836640"/>
            <a:ext cx="86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出购买其他物品的款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31"/>
          <p:cNvSpPr/>
          <p:nvPr/>
        </p:nvSpPr>
        <p:spPr>
          <a:xfrm>
            <a:off x="396720" y="1504800"/>
            <a:ext cx="771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-3.6x+10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k=-3.6&lt;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增大而减小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值最大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.6×1500+10000=46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最小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.6×2000+10000=28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故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8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对象 1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-108000" y="536400"/>
            <a:ext cx="838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下列函数中，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的值随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值的增大而增大的函数是（    ）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A.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-2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   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    B.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-2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+1      C.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-2       D.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=-</a:t>
            </a:r>
            <a:r>
              <a:rPr b="0" i="1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7248600" y="465120"/>
            <a:ext cx="7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541440" y="1863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大致图象可能为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80960" y="3754440"/>
            <a:ext cx="1266840" cy="360"/>
            <a:chOff x="480960" y="3754440"/>
            <a:chExt cx="1266840" cy="360"/>
          </a:xfrm>
        </p:grpSpPr>
        <p:sp>
          <p:nvSpPr>
            <p:cNvPr id="219" name="Line 22"/>
            <p:cNvSpPr/>
            <p:nvPr/>
          </p:nvSpPr>
          <p:spPr>
            <a:xfrm>
              <a:off x="480960" y="3754440"/>
              <a:ext cx="12668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80960" y="3754440"/>
              <a:ext cx="1266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079280" y="3026880"/>
            <a:ext cx="360" cy="1360440"/>
            <a:chOff x="1079280" y="3026880"/>
            <a:chExt cx="360" cy="1360440"/>
          </a:xfrm>
        </p:grpSpPr>
        <p:sp>
          <p:nvSpPr>
            <p:cNvPr id="222" name="Line 23"/>
            <p:cNvSpPr/>
            <p:nvPr/>
          </p:nvSpPr>
          <p:spPr>
            <a:xfrm flipV="1">
              <a:off x="1079640" y="3026880"/>
              <a:ext cx="0" cy="1360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 rot="10800000">
              <a:off x="1079280" y="3026880"/>
              <a:ext cx="360" cy="136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09720" y="3122640"/>
            <a:ext cx="731880" cy="885960"/>
            <a:chOff x="909720" y="3122640"/>
            <a:chExt cx="731880" cy="885960"/>
          </a:xfrm>
        </p:grpSpPr>
        <p:sp>
          <p:nvSpPr>
            <p:cNvPr id="225" name="Line 24"/>
            <p:cNvSpPr/>
            <p:nvPr/>
          </p:nvSpPr>
          <p:spPr>
            <a:xfrm>
              <a:off x="909720" y="3122640"/>
              <a:ext cx="731880" cy="8859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909720" y="3122640"/>
              <a:ext cx="731880" cy="88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Object 25" descr=""/>
          <p:cNvPicPr/>
          <p:nvPr/>
        </p:nvPicPr>
        <p:blipFill>
          <a:blip r:embed="rId1"/>
          <a:stretch/>
        </p:blipFill>
        <p:spPr>
          <a:xfrm>
            <a:off x="828720" y="3786120"/>
            <a:ext cx="206280" cy="287280"/>
          </a:xfrm>
          <a:prstGeom prst="rect">
            <a:avLst/>
          </a:prstGeom>
          <a:ln w="0">
            <a:noFill/>
          </a:ln>
        </p:spPr>
      </p:pic>
      <p:pic>
        <p:nvPicPr>
          <p:cNvPr id="228" name="Object 26" descr=""/>
          <p:cNvPicPr/>
          <p:nvPr/>
        </p:nvPicPr>
        <p:blipFill>
          <a:blip r:embed="rId2"/>
          <a:stretch/>
        </p:blipFill>
        <p:spPr>
          <a:xfrm>
            <a:off x="939960" y="2778120"/>
            <a:ext cx="258480" cy="34128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27" descr=""/>
          <p:cNvPicPr/>
          <p:nvPr/>
        </p:nvPicPr>
        <p:blipFill>
          <a:blip r:embed="rId3"/>
          <a:stretch/>
        </p:blipFill>
        <p:spPr>
          <a:xfrm>
            <a:off x="1763640" y="3643200"/>
            <a:ext cx="179640" cy="25092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2178000" y="3673440"/>
            <a:ext cx="1246320" cy="360"/>
            <a:chOff x="2178000" y="3673440"/>
            <a:chExt cx="1246320" cy="360"/>
          </a:xfrm>
        </p:grpSpPr>
        <p:sp>
          <p:nvSpPr>
            <p:cNvPr id="231" name="Line 29"/>
            <p:cNvSpPr/>
            <p:nvPr/>
          </p:nvSpPr>
          <p:spPr>
            <a:xfrm>
              <a:off x="2178000" y="3673440"/>
              <a:ext cx="12463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2178000" y="3673440"/>
              <a:ext cx="124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68400" y="2896920"/>
            <a:ext cx="360" cy="1452600"/>
            <a:chOff x="2768400" y="2896920"/>
            <a:chExt cx="360" cy="1452600"/>
          </a:xfrm>
        </p:grpSpPr>
        <p:sp>
          <p:nvSpPr>
            <p:cNvPr id="234" name="Line 30"/>
            <p:cNvSpPr/>
            <p:nvPr/>
          </p:nvSpPr>
          <p:spPr>
            <a:xfrm flipV="1">
              <a:off x="2768760" y="2896920"/>
              <a:ext cx="0" cy="14526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 rot="10800000">
              <a:off x="2768400" y="2896920"/>
              <a:ext cx="360" cy="145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31" descr=""/>
          <p:cNvPicPr/>
          <p:nvPr/>
        </p:nvPicPr>
        <p:blipFill>
          <a:blip r:embed="rId4"/>
          <a:stretch/>
        </p:blipFill>
        <p:spPr>
          <a:xfrm>
            <a:off x="2556000" y="3643200"/>
            <a:ext cx="193680" cy="2872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32" descr=""/>
          <p:cNvPicPr/>
          <p:nvPr/>
        </p:nvPicPr>
        <p:blipFill>
          <a:blip r:embed="rId5"/>
          <a:stretch/>
        </p:blipFill>
        <p:spPr>
          <a:xfrm>
            <a:off x="2554200" y="2706840"/>
            <a:ext cx="208080" cy="30312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33" descr=""/>
          <p:cNvPicPr/>
          <p:nvPr/>
        </p:nvPicPr>
        <p:blipFill>
          <a:blip r:embed="rId6"/>
          <a:stretch/>
        </p:blipFill>
        <p:spPr>
          <a:xfrm>
            <a:off x="3354480" y="3643200"/>
            <a:ext cx="172800" cy="26064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2347920" y="2938320"/>
            <a:ext cx="595440" cy="1189080"/>
            <a:chOff x="2347920" y="2938320"/>
            <a:chExt cx="595440" cy="1189080"/>
          </a:xfrm>
        </p:grpSpPr>
        <p:sp>
          <p:nvSpPr>
            <p:cNvPr id="240" name="Line 34"/>
            <p:cNvSpPr/>
            <p:nvPr/>
          </p:nvSpPr>
          <p:spPr>
            <a:xfrm flipH="1">
              <a:off x="2347920" y="2938320"/>
              <a:ext cx="595440" cy="1189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2347920" y="2938320"/>
              <a:ext cx="595440" cy="11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711320" y="2896920"/>
            <a:ext cx="360" cy="1422360"/>
            <a:chOff x="4711320" y="2896920"/>
            <a:chExt cx="360" cy="1422360"/>
          </a:xfrm>
        </p:grpSpPr>
        <p:sp>
          <p:nvSpPr>
            <p:cNvPr id="243" name="Line 36"/>
            <p:cNvSpPr/>
            <p:nvPr/>
          </p:nvSpPr>
          <p:spPr>
            <a:xfrm flipV="1">
              <a:off x="4711680" y="2896920"/>
              <a:ext cx="0" cy="1422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 rot="10800000">
              <a:off x="4711320" y="2896920"/>
              <a:ext cx="360" cy="142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062240" y="3648240"/>
            <a:ext cx="1371600" cy="360"/>
            <a:chOff x="4062240" y="3648240"/>
            <a:chExt cx="1371600" cy="360"/>
          </a:xfrm>
        </p:grpSpPr>
        <p:sp>
          <p:nvSpPr>
            <p:cNvPr id="246" name="Line 37"/>
            <p:cNvSpPr/>
            <p:nvPr/>
          </p:nvSpPr>
          <p:spPr>
            <a:xfrm>
              <a:off x="4062240" y="364824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062240" y="364824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Object 38" descr=""/>
          <p:cNvPicPr/>
          <p:nvPr/>
        </p:nvPicPr>
        <p:blipFill>
          <a:blip r:embed="rId7"/>
          <a:stretch/>
        </p:blipFill>
        <p:spPr>
          <a:xfrm>
            <a:off x="4429080" y="3629160"/>
            <a:ext cx="230400" cy="301320"/>
          </a:xfrm>
          <a:prstGeom prst="rect">
            <a:avLst/>
          </a:prstGeom>
          <a:ln w="0">
            <a:noFill/>
          </a:ln>
        </p:spPr>
      </p:pic>
      <p:pic>
        <p:nvPicPr>
          <p:cNvPr id="249" name="Object 39" descr=""/>
          <p:cNvPicPr/>
          <p:nvPr/>
        </p:nvPicPr>
        <p:blipFill>
          <a:blip r:embed="rId8"/>
          <a:stretch/>
        </p:blipFill>
        <p:spPr>
          <a:xfrm>
            <a:off x="4530600" y="2706840"/>
            <a:ext cx="233640" cy="299880"/>
          </a:xfrm>
          <a:prstGeom prst="rect">
            <a:avLst/>
          </a:prstGeom>
          <a:ln w="0">
            <a:noFill/>
          </a:ln>
        </p:spPr>
      </p:pic>
      <p:pic>
        <p:nvPicPr>
          <p:cNvPr id="250" name="Object 40" descr=""/>
          <p:cNvPicPr/>
          <p:nvPr/>
        </p:nvPicPr>
        <p:blipFill>
          <a:blip r:embed="rId9"/>
          <a:stretch/>
        </p:blipFill>
        <p:spPr>
          <a:xfrm>
            <a:off x="5364000" y="3643200"/>
            <a:ext cx="171720" cy="2286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462200" y="3186000"/>
            <a:ext cx="895680" cy="1052640"/>
            <a:chOff x="4462200" y="3186000"/>
            <a:chExt cx="895680" cy="1052640"/>
          </a:xfrm>
        </p:grpSpPr>
        <p:sp>
          <p:nvSpPr>
            <p:cNvPr id="252" name="Line 41"/>
            <p:cNvSpPr/>
            <p:nvPr/>
          </p:nvSpPr>
          <p:spPr>
            <a:xfrm flipH="1">
              <a:off x="4462200" y="3186000"/>
              <a:ext cx="895320" cy="1052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462560" y="3186000"/>
              <a:ext cx="895320" cy="10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Object 43" descr=""/>
          <p:cNvPicPr/>
          <p:nvPr/>
        </p:nvPicPr>
        <p:blipFill>
          <a:blip r:embed="rId10"/>
          <a:stretch/>
        </p:blipFill>
        <p:spPr>
          <a:xfrm>
            <a:off x="6781680" y="2778120"/>
            <a:ext cx="308160" cy="33012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7003800" y="2939760"/>
            <a:ext cx="360" cy="1431720"/>
            <a:chOff x="7003800" y="2939760"/>
            <a:chExt cx="360" cy="1431720"/>
          </a:xfrm>
        </p:grpSpPr>
        <p:sp>
          <p:nvSpPr>
            <p:cNvPr id="256" name="Line 44"/>
            <p:cNvSpPr/>
            <p:nvPr/>
          </p:nvSpPr>
          <p:spPr>
            <a:xfrm flipV="1">
              <a:off x="7004160" y="2939760"/>
              <a:ext cx="0" cy="1431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 rot="10800000">
              <a:off x="7003800" y="2939760"/>
              <a:ext cx="360" cy="143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224760" y="3760920"/>
            <a:ext cx="1647720" cy="360"/>
            <a:chOff x="6224760" y="3760920"/>
            <a:chExt cx="1647720" cy="360"/>
          </a:xfrm>
        </p:grpSpPr>
        <p:sp>
          <p:nvSpPr>
            <p:cNvPr id="259" name="Line 45"/>
            <p:cNvSpPr/>
            <p:nvPr/>
          </p:nvSpPr>
          <p:spPr>
            <a:xfrm>
              <a:off x="6224760" y="3760920"/>
              <a:ext cx="1647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6224760" y="3760920"/>
              <a:ext cx="1647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Object 46" descr=""/>
          <p:cNvPicPr/>
          <p:nvPr/>
        </p:nvPicPr>
        <p:blipFill>
          <a:blip r:embed="rId11"/>
          <a:stretch/>
        </p:blipFill>
        <p:spPr>
          <a:xfrm>
            <a:off x="7888320" y="3643200"/>
            <a:ext cx="212760" cy="2415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6316560" y="3303720"/>
            <a:ext cx="943200" cy="1171440"/>
            <a:chOff x="6316560" y="3303720"/>
            <a:chExt cx="943200" cy="1171440"/>
          </a:xfrm>
        </p:grpSpPr>
        <p:sp>
          <p:nvSpPr>
            <p:cNvPr id="263" name="Line 47"/>
            <p:cNvSpPr/>
            <p:nvPr/>
          </p:nvSpPr>
          <p:spPr>
            <a:xfrm>
              <a:off x="6316560" y="3303720"/>
              <a:ext cx="943200" cy="1171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316560" y="3303720"/>
              <a:ext cx="943200" cy="11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Object 48" descr=""/>
          <p:cNvPicPr/>
          <p:nvPr/>
        </p:nvPicPr>
        <p:blipFill>
          <a:blip r:embed="rId12"/>
          <a:stretch/>
        </p:blipFill>
        <p:spPr>
          <a:xfrm>
            <a:off x="7021440" y="3733920"/>
            <a:ext cx="298440" cy="3412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1"/>
          <p:cNvSpPr/>
          <p:nvPr/>
        </p:nvSpPr>
        <p:spPr>
          <a:xfrm>
            <a:off x="6607080" y="18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2"/>
          <p:cNvSpPr/>
          <p:nvPr/>
        </p:nvSpPr>
        <p:spPr>
          <a:xfrm>
            <a:off x="938160" y="4411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                  B                      C                            D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"/>
          <p:cNvSpPr/>
          <p:nvPr/>
        </p:nvSpPr>
        <p:spPr>
          <a:xfrm>
            <a:off x="684360" y="4941720"/>
            <a:ext cx="7296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0" lang="en-US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-1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(3</a:t>
            </a:r>
            <a:r>
              <a:rPr b="0" lang="zh-CN" sz="2400" spc="-1" strike="noStrike">
                <a:solidFill>
                  <a:srgbClr val="030609"/>
                </a:solidFill>
                <a:latin typeface="Times New Roman"/>
                <a:ea typeface="黑体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两点，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填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2"/>
          <p:cNvSpPr/>
          <p:nvPr/>
        </p:nvSpPr>
        <p:spPr>
          <a:xfrm>
            <a:off x="1690560" y="56624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5"/>
          <p:cNvSpPr/>
          <p:nvPr/>
        </p:nvSpPr>
        <p:spPr>
          <a:xfrm>
            <a:off x="611280" y="7412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m-8)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-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象与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下方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减小，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整数，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3"/>
          <p:cNvGrpSpPr/>
          <p:nvPr/>
        </p:nvGrpSpPr>
        <p:grpSpPr>
          <a:xfrm>
            <a:off x="1332000" y="2724120"/>
            <a:ext cx="4593600" cy="866880"/>
            <a:chOff x="1332000" y="2724120"/>
            <a:chExt cx="4593600" cy="866880"/>
          </a:xfrm>
        </p:grpSpPr>
        <p:sp>
          <p:nvSpPr>
            <p:cNvPr id="272" name="Text Box 13"/>
            <p:cNvSpPr/>
            <p:nvPr/>
          </p:nvSpPr>
          <p:spPr>
            <a:xfrm>
              <a:off x="1332000" y="2928960"/>
              <a:ext cx="45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: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由题意得                       ，解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Object 14" descr=""/>
            <p:cNvPicPr/>
            <p:nvPr/>
          </p:nvPicPr>
          <p:blipFill>
            <a:blip r:embed="rId1"/>
            <a:stretch/>
          </p:blipFill>
          <p:spPr>
            <a:xfrm>
              <a:off x="3354480" y="2724120"/>
              <a:ext cx="1730160" cy="8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Object 17" descr=""/>
          <p:cNvPicPr/>
          <p:nvPr/>
        </p:nvPicPr>
        <p:blipFill>
          <a:blip r:embed="rId2"/>
          <a:stretch/>
        </p:blipFill>
        <p:spPr>
          <a:xfrm>
            <a:off x="5925960" y="2722680"/>
            <a:ext cx="1346400" cy="8683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20"/>
          <p:cNvSpPr/>
          <p:nvPr/>
        </p:nvSpPr>
        <p:spPr>
          <a:xfrm>
            <a:off x="1979640" y="38638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整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2268360" y="44402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7596360" y="220824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30400" y="2925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的性质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2"/>
          <p:cNvGrpSpPr/>
          <p:nvPr/>
        </p:nvGrpSpPr>
        <p:grpSpPr>
          <a:xfrm>
            <a:off x="3354480" y="1468440"/>
            <a:ext cx="3822480" cy="3371760"/>
            <a:chOff x="3354480" y="1468440"/>
            <a:chExt cx="3822480" cy="3371760"/>
          </a:xfrm>
        </p:grpSpPr>
        <p:grpSp>
          <p:nvGrpSpPr>
            <p:cNvPr id="281" name="组合 16"/>
            <p:cNvGrpSpPr/>
            <p:nvPr/>
          </p:nvGrpSpPr>
          <p:grpSpPr>
            <a:xfrm>
              <a:off x="3354480" y="1468440"/>
              <a:ext cx="3822480" cy="3371760"/>
              <a:chOff x="3354480" y="1468440"/>
              <a:chExt cx="3822480" cy="3371760"/>
            </a:xfrm>
          </p:grpSpPr>
          <p:sp>
            <p:nvSpPr>
              <p:cNvPr id="282" name="Text Box 4"/>
              <p:cNvSpPr/>
              <p:nvPr/>
            </p:nvSpPr>
            <p:spPr>
              <a:xfrm>
                <a:off x="3711960" y="1886400"/>
                <a:ext cx="346500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k&gt;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随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x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的增大而增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354480" y="1468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Text Box 4"/>
            <p:cNvSpPr/>
            <p:nvPr/>
          </p:nvSpPr>
          <p:spPr>
            <a:xfrm>
              <a:off x="3660120" y="3718080"/>
              <a:ext cx="351648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&lt;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增大而减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一次函数的性质．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灵活运用一次函数的图象与性质解答有关问题．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83664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07920" y="126036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图象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914400" y="3368520"/>
            <a:ext cx="582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出一次函数图象需要描出几个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475280" y="4151160"/>
            <a:ext cx="19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只需要描出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个点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2"/>
          <p:cNvSpPr/>
          <p:nvPr/>
        </p:nvSpPr>
        <p:spPr>
          <a:xfrm>
            <a:off x="1122480" y="1908000"/>
            <a:ext cx="59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次函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kx+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图象是一条直线，直线上所有点的坐标都满足表达式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y=kx+b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619440" y="4151160"/>
            <a:ext cx="34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一般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直线与两坐标轴的两交点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)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(          ,0)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ject 6" descr=""/>
          <p:cNvPicPr/>
          <p:nvPr/>
        </p:nvPicPr>
        <p:blipFill>
          <a:blip r:embed="rId1"/>
          <a:stretch/>
        </p:blipFill>
        <p:spPr>
          <a:xfrm>
            <a:off x="3859200" y="5195880"/>
            <a:ext cx="704880" cy="884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6147"/>
          <p:cNvGrpSpPr/>
          <p:nvPr/>
        </p:nvGrpSpPr>
        <p:grpSpPr>
          <a:xfrm>
            <a:off x="325440" y="246240"/>
            <a:ext cx="2232360" cy="808200"/>
            <a:chOff x="325440" y="246240"/>
            <a:chExt cx="2232360" cy="808200"/>
          </a:xfrm>
        </p:grpSpPr>
        <p:sp>
          <p:nvSpPr>
            <p:cNvPr id="87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151"/>
            <p:cNvSpPr/>
            <p:nvPr/>
          </p:nvSpPr>
          <p:spPr>
            <a:xfrm>
              <a:off x="1950120" y="520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圆角矩形 31"/>
          <p:cNvSpPr/>
          <p:nvPr/>
        </p:nvSpPr>
        <p:spPr>
          <a:xfrm>
            <a:off x="849240" y="149868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00080" y="20718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直角坐标系中分别作出下列一次函数的图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2x+6      y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     y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       y=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6"/>
          <p:cNvSpPr/>
          <p:nvPr/>
        </p:nvSpPr>
        <p:spPr>
          <a:xfrm flipV="1">
            <a:off x="1752480" y="3465360"/>
            <a:ext cx="54104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354480" y="27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694320" y="343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654240" y="34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3218040" y="1787400"/>
            <a:ext cx="536040" cy="459720"/>
            <a:chOff x="3218040" y="1787400"/>
            <a:chExt cx="536040" cy="459720"/>
          </a:xfrm>
        </p:grpSpPr>
        <p:sp>
          <p:nvSpPr>
            <p:cNvPr id="99" name="Text Box 11"/>
            <p:cNvSpPr/>
            <p:nvPr/>
          </p:nvSpPr>
          <p:spPr>
            <a:xfrm>
              <a:off x="3218040" y="178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627720" y="1959120"/>
              <a:ext cx="126360" cy="360"/>
              <a:chOff x="3627720" y="1959120"/>
              <a:chExt cx="126360" cy="360"/>
            </a:xfrm>
          </p:grpSpPr>
          <p:sp>
            <p:nvSpPr>
              <p:cNvPr id="101" name="Line 12"/>
              <p:cNvSpPr/>
              <p:nvPr/>
            </p:nvSpPr>
            <p:spPr>
              <a:xfrm>
                <a:off x="3627720" y="1959120"/>
                <a:ext cx="12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3627720" y="1959120"/>
                <a:ext cx="12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3"/>
          <p:cNvGrpSpPr/>
          <p:nvPr/>
        </p:nvGrpSpPr>
        <p:grpSpPr>
          <a:xfrm>
            <a:off x="3217680" y="974880"/>
            <a:ext cx="537840" cy="459720"/>
            <a:chOff x="3217680" y="974880"/>
            <a:chExt cx="537840" cy="459720"/>
          </a:xfrm>
        </p:grpSpPr>
        <p:sp>
          <p:nvSpPr>
            <p:cNvPr id="104" name="Text Box 14"/>
            <p:cNvSpPr/>
            <p:nvPr/>
          </p:nvSpPr>
          <p:spPr>
            <a:xfrm>
              <a:off x="3217680" y="974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3626640" y="114876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6"/>
          <p:cNvGrpSpPr/>
          <p:nvPr/>
        </p:nvGrpSpPr>
        <p:grpSpPr>
          <a:xfrm>
            <a:off x="3217680" y="1380960"/>
            <a:ext cx="537840" cy="459720"/>
            <a:chOff x="3217680" y="1380960"/>
            <a:chExt cx="537840" cy="459720"/>
          </a:xfrm>
        </p:grpSpPr>
        <p:sp>
          <p:nvSpPr>
            <p:cNvPr id="107" name="Text Box 17"/>
            <p:cNvSpPr/>
            <p:nvPr/>
          </p:nvSpPr>
          <p:spPr>
            <a:xfrm>
              <a:off x="3217680" y="138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3626640" y="155412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9"/>
          <p:cNvGrpSpPr/>
          <p:nvPr/>
        </p:nvGrpSpPr>
        <p:grpSpPr>
          <a:xfrm>
            <a:off x="3217680" y="2133720"/>
            <a:ext cx="537840" cy="459720"/>
            <a:chOff x="3217680" y="2133720"/>
            <a:chExt cx="537840" cy="459720"/>
          </a:xfrm>
        </p:grpSpPr>
        <p:sp>
          <p:nvSpPr>
            <p:cNvPr id="110" name="Text Box 20"/>
            <p:cNvSpPr/>
            <p:nvPr/>
          </p:nvSpPr>
          <p:spPr>
            <a:xfrm>
              <a:off x="3217680" y="21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3626640" y="230724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2"/>
          <p:cNvGrpSpPr/>
          <p:nvPr/>
        </p:nvGrpSpPr>
        <p:grpSpPr>
          <a:xfrm>
            <a:off x="3217680" y="2481120"/>
            <a:ext cx="537840" cy="459720"/>
            <a:chOff x="3217680" y="2481120"/>
            <a:chExt cx="537840" cy="459720"/>
          </a:xfrm>
        </p:grpSpPr>
        <p:sp>
          <p:nvSpPr>
            <p:cNvPr id="113" name="Text Box 23"/>
            <p:cNvSpPr/>
            <p:nvPr/>
          </p:nvSpPr>
          <p:spPr>
            <a:xfrm>
              <a:off x="3217680" y="248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3626640" y="265500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3953160" y="3354480"/>
            <a:ext cx="333000" cy="570600"/>
            <a:chOff x="3953160" y="3354480"/>
            <a:chExt cx="333000" cy="570600"/>
          </a:xfrm>
        </p:grpSpPr>
        <p:sp>
          <p:nvSpPr>
            <p:cNvPr id="116" name="Text Box 26"/>
            <p:cNvSpPr/>
            <p:nvPr/>
          </p:nvSpPr>
          <p:spPr>
            <a:xfrm>
              <a:off x="395316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>
              <a:off x="408312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8"/>
          <p:cNvGrpSpPr/>
          <p:nvPr/>
        </p:nvGrpSpPr>
        <p:grpSpPr>
          <a:xfrm>
            <a:off x="4453200" y="3354480"/>
            <a:ext cx="333000" cy="570600"/>
            <a:chOff x="4453200" y="3354480"/>
            <a:chExt cx="333000" cy="570600"/>
          </a:xfrm>
        </p:grpSpPr>
        <p:sp>
          <p:nvSpPr>
            <p:cNvPr id="119" name="Text Box 29"/>
            <p:cNvSpPr/>
            <p:nvPr/>
          </p:nvSpPr>
          <p:spPr>
            <a:xfrm>
              <a:off x="445320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458352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1"/>
          <p:cNvGrpSpPr/>
          <p:nvPr/>
        </p:nvGrpSpPr>
        <p:grpSpPr>
          <a:xfrm>
            <a:off x="4921560" y="3354480"/>
            <a:ext cx="333000" cy="570600"/>
            <a:chOff x="4921560" y="3354480"/>
            <a:chExt cx="333000" cy="570600"/>
          </a:xfrm>
        </p:grpSpPr>
        <p:sp>
          <p:nvSpPr>
            <p:cNvPr id="122" name="Text Box 32"/>
            <p:cNvSpPr/>
            <p:nvPr/>
          </p:nvSpPr>
          <p:spPr>
            <a:xfrm>
              <a:off x="492156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505188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5838120" y="3349800"/>
            <a:ext cx="333000" cy="571680"/>
            <a:chOff x="5838120" y="3349800"/>
            <a:chExt cx="333000" cy="571680"/>
          </a:xfrm>
        </p:grpSpPr>
        <p:sp>
          <p:nvSpPr>
            <p:cNvPr id="125" name="Text Box 35"/>
            <p:cNvSpPr/>
            <p:nvPr/>
          </p:nvSpPr>
          <p:spPr>
            <a:xfrm>
              <a:off x="5838120" y="3461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5968800" y="334980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7"/>
          <p:cNvGrpSpPr/>
          <p:nvPr/>
        </p:nvGrpSpPr>
        <p:grpSpPr>
          <a:xfrm>
            <a:off x="3046320" y="3354480"/>
            <a:ext cx="435240" cy="570600"/>
            <a:chOff x="3046320" y="3354480"/>
            <a:chExt cx="435240" cy="570600"/>
          </a:xfrm>
        </p:grpSpPr>
        <p:sp>
          <p:nvSpPr>
            <p:cNvPr id="128" name="Text Box 38"/>
            <p:cNvSpPr/>
            <p:nvPr/>
          </p:nvSpPr>
          <p:spPr>
            <a:xfrm>
              <a:off x="3046320" y="3465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9"/>
            <p:cNvSpPr/>
            <p:nvPr/>
          </p:nvSpPr>
          <p:spPr>
            <a:xfrm>
              <a:off x="317664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40"/>
          <p:cNvGrpSpPr/>
          <p:nvPr/>
        </p:nvGrpSpPr>
        <p:grpSpPr>
          <a:xfrm>
            <a:off x="2594520" y="3354480"/>
            <a:ext cx="435240" cy="570600"/>
            <a:chOff x="2594520" y="3354480"/>
            <a:chExt cx="435240" cy="570600"/>
          </a:xfrm>
        </p:grpSpPr>
        <p:sp>
          <p:nvSpPr>
            <p:cNvPr id="131" name="Text Box 41"/>
            <p:cNvSpPr/>
            <p:nvPr/>
          </p:nvSpPr>
          <p:spPr>
            <a:xfrm>
              <a:off x="2594520" y="3465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>
              <a:off x="272520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43"/>
          <p:cNvGrpSpPr/>
          <p:nvPr/>
        </p:nvGrpSpPr>
        <p:grpSpPr>
          <a:xfrm>
            <a:off x="6250320" y="3354480"/>
            <a:ext cx="333000" cy="570600"/>
            <a:chOff x="6250320" y="3354480"/>
            <a:chExt cx="333000" cy="570600"/>
          </a:xfrm>
        </p:grpSpPr>
        <p:sp>
          <p:nvSpPr>
            <p:cNvPr id="134" name="Text Box 44"/>
            <p:cNvSpPr/>
            <p:nvPr/>
          </p:nvSpPr>
          <p:spPr>
            <a:xfrm>
              <a:off x="625032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5"/>
            <p:cNvSpPr/>
            <p:nvPr/>
          </p:nvSpPr>
          <p:spPr>
            <a:xfrm>
              <a:off x="638028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46"/>
          <p:cNvGrpSpPr/>
          <p:nvPr/>
        </p:nvGrpSpPr>
        <p:grpSpPr>
          <a:xfrm>
            <a:off x="5423040" y="3354480"/>
            <a:ext cx="333000" cy="570600"/>
            <a:chOff x="5423040" y="3354480"/>
            <a:chExt cx="333000" cy="570600"/>
          </a:xfrm>
        </p:grpSpPr>
        <p:sp>
          <p:nvSpPr>
            <p:cNvPr id="137" name="Text Box 47"/>
            <p:cNvSpPr/>
            <p:nvPr/>
          </p:nvSpPr>
          <p:spPr>
            <a:xfrm>
              <a:off x="5423040" y="346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8"/>
            <p:cNvSpPr/>
            <p:nvPr/>
          </p:nvSpPr>
          <p:spPr>
            <a:xfrm>
              <a:off x="5553000" y="335448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2"/>
          <p:cNvGrpSpPr/>
          <p:nvPr/>
        </p:nvGrpSpPr>
        <p:grpSpPr>
          <a:xfrm>
            <a:off x="3165480" y="3697200"/>
            <a:ext cx="590040" cy="459720"/>
            <a:chOff x="3165480" y="3697200"/>
            <a:chExt cx="590040" cy="459720"/>
          </a:xfrm>
        </p:grpSpPr>
        <p:sp>
          <p:nvSpPr>
            <p:cNvPr id="140" name="Text Box 53"/>
            <p:cNvSpPr/>
            <p:nvPr/>
          </p:nvSpPr>
          <p:spPr>
            <a:xfrm>
              <a:off x="3165480" y="3697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4"/>
            <p:cNvSpPr/>
            <p:nvPr/>
          </p:nvSpPr>
          <p:spPr>
            <a:xfrm>
              <a:off x="3626640" y="387108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58"/>
          <p:cNvSpPr/>
          <p:nvPr/>
        </p:nvSpPr>
        <p:spPr>
          <a:xfrm flipV="1">
            <a:off x="3627360" y="509400"/>
            <a:ext cx="0" cy="36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59"/>
          <p:cNvGrpSpPr/>
          <p:nvPr/>
        </p:nvGrpSpPr>
        <p:grpSpPr>
          <a:xfrm>
            <a:off x="2141280" y="3354480"/>
            <a:ext cx="435240" cy="570600"/>
            <a:chOff x="2141280" y="3354480"/>
            <a:chExt cx="435240" cy="570600"/>
          </a:xfrm>
        </p:grpSpPr>
        <p:sp>
          <p:nvSpPr>
            <p:cNvPr id="144" name="Text Box 60"/>
            <p:cNvSpPr/>
            <p:nvPr/>
          </p:nvSpPr>
          <p:spPr>
            <a:xfrm>
              <a:off x="2141280" y="34653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61"/>
            <p:cNvSpPr/>
            <p:nvPr/>
          </p:nvSpPr>
          <p:spPr>
            <a:xfrm>
              <a:off x="2271600" y="3354480"/>
              <a:ext cx="0" cy="11556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62"/>
          <p:cNvGrpSpPr/>
          <p:nvPr/>
        </p:nvGrpSpPr>
        <p:grpSpPr>
          <a:xfrm>
            <a:off x="3278520" y="2889360"/>
            <a:ext cx="538920" cy="459720"/>
            <a:chOff x="3278520" y="2889360"/>
            <a:chExt cx="538920" cy="459720"/>
          </a:xfrm>
        </p:grpSpPr>
        <p:sp>
          <p:nvSpPr>
            <p:cNvPr id="147" name="Text Box 63"/>
            <p:cNvSpPr/>
            <p:nvPr/>
          </p:nvSpPr>
          <p:spPr>
            <a:xfrm>
              <a:off x="3278520" y="28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687120" y="3061800"/>
              <a:ext cx="130320" cy="360"/>
              <a:chOff x="3687120" y="3061800"/>
              <a:chExt cx="130320" cy="360"/>
            </a:xfrm>
          </p:grpSpPr>
          <p:sp>
            <p:nvSpPr>
              <p:cNvPr id="149" name="Line 64"/>
              <p:cNvSpPr/>
              <p:nvPr/>
            </p:nvSpPr>
            <p:spPr>
              <a:xfrm>
                <a:off x="3687120" y="3061800"/>
                <a:ext cx="130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>
                <a:off x="3687120" y="3061800"/>
                <a:ext cx="13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Text Box 65"/>
          <p:cNvSpPr/>
          <p:nvPr/>
        </p:nvSpPr>
        <p:spPr>
          <a:xfrm>
            <a:off x="3540240" y="2858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6"/>
          <p:cNvSpPr/>
          <p:nvPr/>
        </p:nvSpPr>
        <p:spPr>
          <a:xfrm>
            <a:off x="1368360" y="162396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y=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7"/>
          <p:cNvSpPr/>
          <p:nvPr/>
        </p:nvSpPr>
        <p:spPr>
          <a:xfrm>
            <a:off x="3689280" y="239868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8"/>
          <p:cNvSpPr/>
          <p:nvPr/>
        </p:nvSpPr>
        <p:spPr>
          <a:xfrm>
            <a:off x="1042920" y="28414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y=2x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9"/>
          <p:cNvSpPr/>
          <p:nvPr/>
        </p:nvSpPr>
        <p:spPr>
          <a:xfrm>
            <a:off x="4809960" y="1922400"/>
            <a:ext cx="15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-x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0"/>
          <p:cNvSpPr/>
          <p:nvPr/>
        </p:nvSpPr>
        <p:spPr>
          <a:xfrm flipH="1">
            <a:off x="3433680" y="1088640"/>
            <a:ext cx="828720" cy="3077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1"/>
          <p:cNvSpPr/>
          <p:nvPr/>
        </p:nvSpPr>
        <p:spPr>
          <a:xfrm>
            <a:off x="2028960" y="2087280"/>
            <a:ext cx="2579400" cy="225504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2"/>
          <p:cNvSpPr/>
          <p:nvPr/>
        </p:nvSpPr>
        <p:spPr>
          <a:xfrm>
            <a:off x="3386160" y="967320"/>
            <a:ext cx="3168720" cy="25959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3"/>
          <p:cNvSpPr/>
          <p:nvPr/>
        </p:nvSpPr>
        <p:spPr>
          <a:xfrm flipH="1">
            <a:off x="2191320" y="837720"/>
            <a:ext cx="1633320" cy="2737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130400" y="4432320"/>
            <a:ext cx="718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哪些函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是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增大的？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哪些函数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是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减小的？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增大而增大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值的增大而减小两种函数，它们的区别和自变量系数的符号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62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35080" y="1274760"/>
            <a:ext cx="35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地，我们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135080" y="1922400"/>
            <a:ext cx="6630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+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常数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≠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&gt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增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&lt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的增大而减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家谈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582480" y="1411200"/>
            <a:ext cx="8120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哪些函数的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上方，哪些函数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下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函数的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上方和函数的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下方，这两种函数，它们的区别与常数项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正比例函数的图像一定经过哪个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852480" y="19080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+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是经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上的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条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上方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下方；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原点，即正比例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k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是经过原点的一条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31"/>
          <p:cNvSpPr/>
          <p:nvPr/>
        </p:nvSpPr>
        <p:spPr>
          <a:xfrm>
            <a:off x="493560" y="120168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0"/>
          <p:cNvSpPr/>
          <p:nvPr/>
        </p:nvSpPr>
        <p:spPr>
          <a:xfrm>
            <a:off x="684360" y="11955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几个一次函数的大致图象如图所示，试分别确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符号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1473120" y="2220840"/>
            <a:ext cx="5618160" cy="17622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2"/>
          <p:cNvSpPr/>
          <p:nvPr/>
        </p:nvSpPr>
        <p:spPr>
          <a:xfrm>
            <a:off x="720720" y="3859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44144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376360" y="3859200"/>
            <a:ext cx="2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394488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478620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586728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6804000" y="3859200"/>
            <a:ext cx="2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2050920" y="285120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5"/>
          <p:cNvSpPr/>
          <p:nvPr/>
        </p:nvSpPr>
        <p:spPr>
          <a:xfrm>
            <a:off x="4127400" y="33670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6"/>
          <p:cNvSpPr/>
          <p:nvPr/>
        </p:nvSpPr>
        <p:spPr>
          <a:xfrm>
            <a:off x="6168960" y="306720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31"/>
          <p:cNvSpPr/>
          <p:nvPr/>
        </p:nvSpPr>
        <p:spPr>
          <a:xfrm>
            <a:off x="577800" y="739800"/>
            <a:ext cx="10098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mph" presetID="3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mph" presetID="3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mph" presetID="3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7:14Z</dcterms:created>
  <dc:creator> </dc:creator>
  <dc:description> </dc:description>
  <dc:language>en-US</dc:language>
  <cp:lastModifiedBy>Administrator</cp:lastModifiedBy>
  <dcterms:modified xsi:type="dcterms:W3CDTF">2018-12-29T02:47:4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